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our work this week we have found that the following concepts help to develop proportional reasoning: fractions (doubling and halving), ratio, repeating and growing patterns, area measurement (arrays), multiplicative think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video clip (Jill’s class) at 57:49 and end at 1:04.  The student is able to double some numbers and not others.  When the teacher probed to find out how the student knew the number was doubled, the student began to count by ones.  This student has both content and process nee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investigate one or more of these resources using laptops.  The focus should be on finding activities to develop number sense, counting, and/or multiplicative think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BE0D5-A270-4A57-ABC3-0F382B0C46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384219-92B6-49F0-91EF-3B5C1B4200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2AE02F-77A4-4FFD-B190-31F02F3CF1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BF93FD-A103-4765-BE53-262C0D6028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ED791-A529-48C4-B0E5-E6193D9050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B5337-3312-4477-9BB1-ECFF51D248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2B8A2-7F98-40B0-B81F-02ADB495D7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F28E8B8B-D070-4B97-9D07-412CAFC55F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B429AAE-0E32-432A-9321-7C36E6B69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39594-E8DE-409A-88B0-19ED267AD9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4221C-04EC-4696-ABCD-D01876FAE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FEB21-307E-40CE-98D2-8B63B61B02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F436-FCA4-451D-8AE9-894CA9B767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986E-1651-46DA-920D-D7CCA5344C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ncept Maps</a:t>
            </a:r>
            <a:endParaRPr b="0" lang="en-US" sz="4400" spc="-1" strike="noStrike">
              <a:solidFill>
                <a:srgbClr val="2b5ca9"/>
              </a:solidFill>
              <a:latin typeface="Arial"/>
            </a:endParaRPr>
          </a:p>
        </p:txBody>
      </p:sp>
      <p:sp>
        <p:nvSpPr>
          <p:cNvPr id="89" name="PlaceHolder 2"/>
          <p:cNvSpPr>
            <a:spLocks noGrp="1"/>
          </p:cNvSpPr>
          <p:nvPr>
            <p:ph/>
          </p:nvPr>
        </p:nvSpPr>
        <p:spPr>
          <a:xfrm>
            <a:off x="380880" y="1523880"/>
            <a:ext cx="8229600" cy="327672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group members, add to your</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cept maps for proportional reasoning.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ands or concepts are connected to</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portional reasoning for primary stud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C6D6-7F5F-4249-AFC5-D7A2B5D1EA3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1" descr=""/>
          <p:cNvPicPr/>
          <p:nvPr/>
        </p:nvPicPr>
        <p:blipFill>
          <a:blip r:embed="rId1"/>
          <a:stretch/>
        </p:blipFill>
        <p:spPr>
          <a:xfrm>
            <a:off x="0" y="5356080"/>
            <a:ext cx="9144000" cy="1517760"/>
          </a:xfrm>
          <a:prstGeom prst="rect">
            <a:avLst/>
          </a:prstGeom>
          <a:ln w="0">
            <a:noFill/>
          </a:ln>
        </p:spPr>
      </p:pic>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19B3-2956-4805-A5BA-DCACF64995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3575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In Your Journals-make a chart that looks like this…</a:t>
            </a:r>
            <a:endParaRPr b="0" lang="en-US" sz="40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E5D2-150D-4AEC-8A60-4ECE2B6C1B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52" name=""/>
          <p:cNvGraphicFramePr/>
          <p:nvPr/>
        </p:nvGraphicFramePr>
        <p:xfrm>
          <a:off x="1600200" y="1447920"/>
          <a:ext cx="6095880" cy="4114440"/>
        </p:xfrm>
        <a:graphic>
          <a:graphicData uri="http://schemas.openxmlformats.org/drawingml/2006/table">
            <a:tbl>
              <a:tblPr/>
              <a:tblGrid>
                <a:gridCol w="3048120"/>
                <a:gridCol w="3047760"/>
              </a:tblGrid>
              <a:tr h="690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21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12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56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ive One ~</a:t>
            </a:r>
            <a:endParaRPr b="0" lang="en-US" sz="4400" spc="-1" strike="noStrike">
              <a:solidFill>
                <a:srgbClr val="2b5ca9"/>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moment to think of 3 strategies you have found helpful for students who struggle with proportional reasoning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your ideas in your ‘Give One’ column.  These will be the ideas you share with others.</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2670-FB98-4DBE-9902-24A37FE19D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6" name="Picture 1" descr=""/>
          <p:cNvPicPr/>
          <p:nvPr/>
        </p:nvPicPr>
        <p:blipFill>
          <a:blip r:embed="rId1"/>
          <a:stretch/>
        </p:blipFill>
        <p:spPr>
          <a:xfrm>
            <a:off x="0" y="5356080"/>
            <a:ext cx="9144000" cy="1517760"/>
          </a:xfrm>
          <a:prstGeom prst="rect">
            <a:avLst/>
          </a:prstGeom>
          <a:ln w="0">
            <a:noFill/>
          </a:ln>
        </p:spPr>
      </p:pic>
      <p:sp>
        <p:nvSpPr>
          <p:cNvPr id="5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FAE7-7A85-4BF3-9DFC-E81C7B71D0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et One ~</a:t>
            </a: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who is not at your tab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first ‘Give One’ strateg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en as your partner offers a strategy and record it in your ‘Get One’ colum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is process with two other people who are not from your table.</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12C9-0E4A-4C13-BD6A-4D4D1C42A0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1" descr=""/>
          <p:cNvPicPr/>
          <p:nvPr/>
        </p:nvPicPr>
        <p:blipFill>
          <a:blip r:embed="rId1"/>
          <a:stretch/>
        </p:blipFill>
        <p:spPr>
          <a:xfrm>
            <a:off x="0" y="5356080"/>
            <a:ext cx="9144000" cy="1517760"/>
          </a:xfrm>
          <a:prstGeom prst="rect">
            <a:avLst/>
          </a:prstGeom>
          <a:ln w="0">
            <a:noFill/>
          </a:ln>
        </p:spPr>
      </p:pic>
      <p:sp>
        <p:nvSpPr>
          <p:cNvPr id="6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8336-14DD-4286-9968-2F4D098CE4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questions to guide you as you watch a video clip of a grade 3 student being interviewed about doubling and halving</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 able to do?</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student need?</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ontent (proportional reasoning) an area of need for the student?</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ne or more mathematical processes an area of need?</a:t>
            </a:r>
            <a:endParaRPr b="0" lang="en-US" sz="24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A48E-759A-4A83-A2EB-6524CCAC5F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1" descr=""/>
          <p:cNvPicPr/>
          <p:nvPr/>
        </p:nvPicPr>
        <p:blipFill>
          <a:blip r:embed="rId1"/>
          <a:stretch/>
        </p:blipFill>
        <p:spPr>
          <a:xfrm>
            <a:off x="0" y="5356080"/>
            <a:ext cx="9144000" cy="1517760"/>
          </a:xfrm>
          <a:prstGeom prst="rect">
            <a:avLst/>
          </a:prstGeom>
          <a:ln w="0">
            <a:noFill/>
          </a:ln>
        </p:spPr>
      </p:pic>
      <p:sp>
        <p:nvSpPr>
          <p:cNvPr id="6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71F8-8255-4056-B751-07B0602FE9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 a second tim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notice about the student’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es the teacher ask to probe for student understanding?</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5126-CBDA-42AB-ADDE-05D6663DDF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0" y="5356080"/>
            <a:ext cx="9144000" cy="1517760"/>
          </a:xfrm>
          <a:prstGeom prst="rect">
            <a:avLst/>
          </a:prstGeom>
          <a:ln w="0">
            <a:noFill/>
          </a:ln>
        </p:spPr>
      </p:pic>
      <p:sp>
        <p:nvSpPr>
          <p:cNvPr id="7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AFBF-74B0-4914-AF26-57F667A8936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ink-Pair-Share-Square</a:t>
            </a:r>
            <a:endParaRPr b="0" lang="en-US" sz="4400" spc="-1" strike="noStrike">
              <a:solidFill>
                <a:srgbClr val="2b5ca9"/>
              </a:solidFill>
              <a:latin typeface="Arial"/>
            </a:endParaRPr>
          </a:p>
        </p:txBody>
      </p:sp>
      <p:sp>
        <p:nvSpPr>
          <p:cNvPr id="7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n your own about what your next instructional steps would be for this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find someone and SHARE your next ste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find another pair and share the ideas all of you generated. </a:t>
            </a: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B3C7-C58F-4531-87DD-C1C6C0BE983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Picture 1" descr=""/>
          <p:cNvPicPr/>
          <p:nvPr/>
        </p:nvPicPr>
        <p:blipFill>
          <a:blip r:embed="rId1"/>
          <a:stretch/>
        </p:blipFill>
        <p:spPr>
          <a:xfrm>
            <a:off x="0" y="5356080"/>
            <a:ext cx="9144000" cy="1517760"/>
          </a:xfrm>
          <a:prstGeom prst="rect">
            <a:avLst/>
          </a:prstGeom>
          <a:ln w="0">
            <a:noFill/>
          </a:ln>
        </p:spPr>
      </p:pic>
      <p:sp>
        <p:nvSpPr>
          <p:cNvPr id="7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DB50-D023-44A6-A8CF-A5E339E9AE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rategies for Counting and Multiplicative Thinking</a:t>
            </a:r>
            <a:endParaRPr b="0" lang="en-US" sz="4400" spc="-1" strike="noStrike">
              <a:solidFill>
                <a:srgbClr val="2b5ca9"/>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resource from the following to investigate:</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Closing Material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to Effective Instruction</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enrek Activitie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Games</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1886-9A92-4142-B39A-55B00AA310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Picture 1" descr=""/>
          <p:cNvPicPr/>
          <p:nvPr/>
        </p:nvPicPr>
        <p:blipFill>
          <a:blip r:embed="rId1"/>
          <a:stretch/>
        </p:blipFill>
        <p:spPr>
          <a:xfrm>
            <a:off x="0" y="5356080"/>
            <a:ext cx="9144000" cy="1517760"/>
          </a:xfrm>
          <a:prstGeom prst="rect">
            <a:avLst/>
          </a:prstGeom>
          <a:ln w="0">
            <a:noFill/>
          </a:ln>
        </p:spPr>
      </p:pic>
      <p:sp>
        <p:nvSpPr>
          <p:cNvPr id="8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AE79-2C79-43BA-B93E-0CCCA889785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oup Share</a:t>
            </a:r>
            <a:endParaRPr b="0" lang="en-US" sz="4400" spc="-1" strike="noStrike">
              <a:solidFill>
                <a:srgbClr val="2b5ca9"/>
              </a:solidFill>
              <a:latin typeface="Arial"/>
            </a:endParaRPr>
          </a:p>
        </p:txBody>
      </p:sp>
      <p:sp>
        <p:nvSpPr>
          <p:cNvPr id="84" name="PlaceHolder 2"/>
          <p:cNvSpPr>
            <a:spLocks noGrp="1"/>
          </p:cNvSpPr>
          <p:nvPr>
            <p:ph/>
          </p:nvPr>
        </p:nvSpPr>
        <p:spPr>
          <a:xfrm>
            <a:off x="380880" y="1981080"/>
            <a:ext cx="8229600" cy="243864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useful strategy I discovered today</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a:t>
            </a:r>
            <a:endParaRPr b="0" lang="en-US" sz="3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5959-782C-4B8F-97D1-C3AFAE408A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1" descr=""/>
          <p:cNvPicPr/>
          <p:nvPr/>
        </p:nvPicPr>
        <p:blipFill>
          <a:blip r:embed="rId1"/>
          <a:stretch/>
        </p:blipFill>
        <p:spPr>
          <a:xfrm>
            <a:off x="0" y="5356080"/>
            <a:ext cx="9144000" cy="1517760"/>
          </a:xfrm>
          <a:prstGeom prst="rect">
            <a:avLst/>
          </a:prstGeom>
          <a:ln w="0">
            <a:noFill/>
          </a:ln>
        </p:spPr>
      </p:pic>
      <p:sp>
        <p:nvSpPr>
          <p:cNvPr id="8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6AD9-9B7E-40B1-A691-8203D75445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Computer Services</cp:lastModifiedBy>
  <dcterms:modified xsi:type="dcterms:W3CDTF">2011-08-17T13:55:57Z</dcterms:modified>
  <cp:revision>28</cp:revision>
  <dc:subject/>
  <dc:title>&lt;Title&gt;</dc:title>
</cp:coreProperties>
</file>